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0040A-4F5C-4942-8D27-CFBA9869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10C92-92E0-48FC-83AC-860C203B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EB644-80E8-4E5B-A7DB-366EDE51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B9CAD-0854-4E18-9550-A1E5FD2D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BA5F3-6636-4417-9892-2DD61245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F45EA-3E6B-4FFD-9298-67F36777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7893A-BB62-4623-B466-6EFC690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5C6C8-BC64-479E-B868-9115C74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2E0DA-F22D-416E-90E2-B263BB56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46CEA-CA03-4047-8369-B7547F46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2A325-94D3-4569-AF54-A8186CE9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EEF47-E2E6-4A51-A0BD-47B1E073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28B28-EF6B-452A-A322-588C5785E2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70075-D27B-4890-A982-05EDA4BAAA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BFED4-DB08-429C-9E29-2336AA74B8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2A08D-BE90-4FA6-9EBE-C686E8039E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9A134-1E55-4314-8B78-7509B08B4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331EF-78AC-4C34-B7FE-8422D8EAC0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0361-CEC1-42E0-8597-714E909D30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8B49C-5254-4AAA-B8D5-B28E155D39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9996B-6563-4FB5-B6AD-07A48885DC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B471A-BA7F-418C-8AD6-2DCD02DF97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31018-C386-46A2-9E01-9191079F84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9FECF-05F7-4A96-B033-75A7AEBF2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0DE8-8019-4663-A0C7-ED424F984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fld id="{C578D2C8-5A84-4610-8B77-5FB6F1D0C7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references that refer to the same object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i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creates an interesting situation: one object can be accessed using multiple referenc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ases can be useful, but should be managed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n object through one reference changes it for all of its aliases, because there is really only on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no longer has any valid references to it, it can no longer be accessed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s useless, and therefor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erform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ically, returning an object's memory to the system for futur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languages, the programmer is responsible for perform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1828800" y="2103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strings are so common, we don't have to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to creat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tle = "Java Software Solution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special syntax that work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ing literal (enclosed in double quotes) represen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has been created, neither its value nor its length can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we say that an objec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everal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return ne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that are modified versions of the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Ind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ccasionally helpful to refer to a particular character within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done by specifying the character's numer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exes begin at zero in each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Hello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index 0 an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o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inde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Mutatio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09480" y="3826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ringMuta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String class and its meth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M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string and various mutations of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hrase = "Change is inevitabl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mutation1, mutation2, mutation3, mutation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Original string: \"" + phrase + "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Length of string: " + phrase.length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1 = phrase.concat (", except from vending machin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2 = mutation1.toUpp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3 = mutation2.replace ('E', 'X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4 = mutation3.substring (3, 3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609480" y="1620720"/>
            <a:ext cx="7910640" cy="26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ach mutate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1: " + mutation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2: " + mutation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3: " + mutation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4: " + mutation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ed length: " + mutation4.length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09480" y="1620720"/>
            <a:ext cx="7910640" cy="26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ach mutate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1: " + mutation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2: " + mutation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3: " + mutation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4: " + mutation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ed length: " + mutation4.length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470520" y="752400"/>
            <a:ext cx="8169480" cy="249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 "Change is inevitab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of string: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 #1: Change is inevitable, except from vending mach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 #2: CHANGE IS INEVITABLE, EXCEPT FROM VENDING MACH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 #3: CHANGX IS INXVITABLX, XXCXPT FROM VXNDING MACHINX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 #4: NGX IS INXVITABLX, XXCXP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ed length: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tput is produced by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649800" y="198108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 = "Space, the final frontier.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substring(7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toUpperCas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create more interesting programs using predefined classes and relat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 focuse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creation and object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 and its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ava API class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components and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s and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tput is produced by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649800" y="198108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 = "Space, the final frontier.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substring(7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toUpperCas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930320" y="4267080"/>
            <a:ext cx="5121360" cy="1737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nal front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CE, THE FINAL FRONT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828800" y="26431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classes that we can use when develop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va standard class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art of any Java developmen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classes are not part of the Java language per se, but we rely on them heav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classes we've already used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part of the Java standard class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ava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class library is sometimes referred to as the Java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stands for Application Programming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of related classes are sometimes referred to as specific AP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ng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bas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ava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comfortable navigating the online Java API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Figure3.3 AND FigureM.1.JPG"/>
          <p:cNvPicPr/>
          <p:nvPr/>
        </p:nvPicPr>
        <p:blipFill>
          <a:blip r:embed="rId1"/>
          <a:stretch/>
        </p:blipFill>
        <p:spPr>
          <a:xfrm>
            <a:off x="1673280" y="2133720"/>
            <a:ext cx="5413320" cy="428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urposes of accessing them, classes in the Java API are organized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often overlap with specifi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220760" y="3429000"/>
            <a:ext cx="7396920" cy="2756880"/>
            <a:chOff x="1220760" y="3429000"/>
            <a:chExt cx="7396920" cy="2756880"/>
          </a:xfrm>
        </p:grpSpPr>
        <p:sp>
          <p:nvSpPr>
            <p:cNvPr id="251" name="Text Box 5"/>
            <p:cNvSpPr/>
            <p:nvPr/>
          </p:nvSpPr>
          <p:spPr>
            <a:xfrm>
              <a:off x="1220760" y="3429000"/>
              <a:ext cx="243180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Pack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la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appl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aw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x.s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ut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x.xml.pars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"/>
            <p:cNvSpPr/>
            <p:nvPr/>
          </p:nvSpPr>
          <p:spPr>
            <a:xfrm>
              <a:off x="3528000" y="3430440"/>
              <a:ext cx="508968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Purp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General sup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Creating applets for the we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Graphics and graphical user interfa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Additional graphics 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Network 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Ut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XML document 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port Decl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want to use a class from a package, you could use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lly qualified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c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you c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lass, and then use just the clas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.util.Scann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ort all classes in a particular package, you can use the * wildcard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port Decl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lasse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 are imported automatically into al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s if all programs contain the following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's why we didn't have to imp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es explicitly in earli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on the other hand,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, and therefore must be im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ndom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ovides methods that generate pseudorando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performs complicated calculations based o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ed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oduce a stream of seemingly random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Number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609480" y="38268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ndomNumbe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creation of pseudo-random numbers us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ndom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Rand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enerates random numbers in various ran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generato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random integer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0 to 9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828800" y="15256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0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1 to 10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5) + 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20 to 34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20) -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-10 to 9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generator.nextFloa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random float (between 0-1): " + num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generator.nextFloat() * 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.0 to 5.999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num2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1 to 6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0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1 to 10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5) + 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20 to 34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20) -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-10 to 9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generator.nextFloa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random float (between 0-1): " + num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generator.nextFloat() * 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.0 to 5.999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num2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1 to 6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893960" y="752400"/>
            <a:ext cx="5243400" cy="249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 random integer: 6729816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0 to 9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1 to 10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20 to 34: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-10 to 9: 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 random float (between 0-1): 0.185383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1 to 6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at range of values are produced by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859320" y="2655720"/>
            <a:ext cx="40212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6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00)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50) 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0) –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2)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at range of values are produced by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859320" y="2655720"/>
            <a:ext cx="40212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6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00)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50) 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0) –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2)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599080" y="2209680"/>
            <a:ext cx="200952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to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to 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to 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5 t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to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xpression that produces a random integer in the following ra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623600" y="2362320"/>
            <a:ext cx="16437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to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5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10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xpression that produces a random integer in the following ra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3761640" y="2805120"/>
            <a:ext cx="38383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0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6)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1)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1623600" y="2362320"/>
            <a:ext cx="16437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to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5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10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methods that perform various mathematic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onometr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ethods are invoked through the class name – no objec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Math.cos(90) + Math.sqrt(del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 static methods further in 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Quadratic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09480" y="68580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adratic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Math class to perform a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ased on user inp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dr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the roots of a quadratic equ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x^2 + bx +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riminant, root1, root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efficient of x squar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09480" y="6858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efficient of x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nstan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the quadratic formula to compute the ro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s a positive discrimin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riminant = Math.pow(b, 2) - (4 * a *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1 = ((-1 * b) + Math.sqrt(discriminant)) / (2 *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2 = ((-1 * b) - Math.sqrt(discriminant)) / (2 *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ot #1: " + roo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ot #2: " + root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holds either a primitive value o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name can be used as a type to declar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 referenc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tit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bject is created with this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reference variable holds the address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tself must be created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609480" y="6858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efficient of x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nstan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the quadratic formula to compute the ro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s a positive discrimin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riminant = Math.pow(b, 2) - (4 * a *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1 = ((-1 * b) + Math.sqrt(discriminant)) / (2 *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2 = ((-1 * b) - Math.sqrt(discriminant)) / (2 *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ot #1: " + roo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ot #2: " + root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109240" y="457200"/>
            <a:ext cx="487764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coefficient of x squared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coefficient of x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constant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 #1: -0.66666666666666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 #2: -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18288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ften necessary to format output values in certain ways so that they can be presente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standard class library contains classes that provide formatt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llows you to format values as currency or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llows you to format values based on a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has static methods that return a formatte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CurrencyInstanc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PercentInstanc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ormatter object has a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a string with the specified information in the appropriat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rchas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609480" y="68580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urchas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NumberFormat class to format outp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alculates the final price of a purchased item using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ntered by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X_RATE = 0.0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6% sales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total, tax, totalCost, unitPr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609480" y="9270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1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2 = NumberFormat.getPercen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quantity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unit price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Price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total = quantity * unitPr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x = subtotal * TAX_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 = subtotal + ta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utput with appropriate forma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ubtotal: " + fmt1.format(subtotal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ax: " + fmt1.format(tax) + " at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fmt2.format(TAX_RAT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otal: " + fmt1.format(totalCost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609480" y="9270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1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2 = NumberFormat.getPercen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quantity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unit price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Price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total = quantity * unitPr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x = subtotal * TAX_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 = subtotal + ta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utput with appropriate forma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ubtotal: " + fmt1.format(subtotal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ax: " + fmt1.format(tax) + " at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fmt2.format(TAX_RAT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otal: " + fmt1.format(totalCost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2912400" y="685800"/>
            <a:ext cx="353664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quantity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unit price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3.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total: $19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x: $1.16 at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: $20.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an be used to format a floating point value in various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you can specify that the number should be truncated to three decimal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ructor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akes a string that represents a pattern for the formatte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Stat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ircleStat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formatting of decimal values us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cimalFormat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Decimal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S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alculates the area and circumference of a circle given 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di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, circumfere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609480" y="10000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ircle's radiu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= Math.PI * Math.pow(radius,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= 2 * Math.PI * radi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und the output to three decimal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#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circle's area: " + fmt.format(area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circle's circumference: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fmt.format(circumferenc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we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to create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n objec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particula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64280" y="3733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tle = new String ("Java Software Solutions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565720" y="4800600"/>
            <a:ext cx="529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his calls the String </a:t>
            </a:r>
            <a:r>
              <a:rPr b="1" i="1" lang="en-US" sz="2000" spc="-1" strike="noStrike">
                <a:solidFill>
                  <a:srgbClr val="008000"/>
                </a:solidFill>
                <a:latin typeface="Arial Unicode MS"/>
              </a:rPr>
              <a:t>constructor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,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 special method that sets up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 rot="16200000">
            <a:off x="5029200" y="1905120"/>
            <a:ext cx="457200" cy="5029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609480" y="10000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ircle's radiu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= Math.PI * Math.pow(radius,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= 2 * Math.PI * radi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und the output to three decimal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#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circle's area: " + fmt.format(area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circle's circumference: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fmt.format(circumferenc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2384280" y="609480"/>
            <a:ext cx="451188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circle's radius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ircle's area: 78.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ircle's circumference: 31.4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828800" y="3724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allows you to defin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umerated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then be used to declar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umerated type declaration lists all possible values for a variable of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are identifiers of your own cho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eclaration creates an enumerated type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 Season {winter, spring, summer, fall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values can be 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type is defined, a variable of that type can be decla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ason ti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 can be assigned a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 = Season.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are referenced through the name of th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erated typ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-sa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ou cannot assign any value other than those 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inal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ly, each value of an enumerated type is stored as an integer,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din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value in an enumerated type has an ordinal value of zero, the second one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you cannot assign a numeric value to an enumerated type, even if it corresponds to a valid ordin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laration of an enumerated type is a special type of class, and each variable of that type is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d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the ordinal value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the name of the identifier corresponding to the object'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ceCream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ceCream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enumerated ty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ceC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nu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avor {vanilla, chocolate, strawberry, fudgeRipple, coffe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yRoad, mintChocolateChip, cookieDough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uses variables of the Flavor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avor cone1, cone2, cone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1 = Flavor.rockyRoa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2 = Flavor.chocol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1 value: " + cone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1 ordinal: " + cone1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1 name: " + cone1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609480" y="12160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value: " + con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ordinal: " + cone2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name: " + cone2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= cone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value: " + cone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ordinal: " + cone3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name: " + cone3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609480" y="12160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value: " + con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ordinal: " + cone2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name: " + cone2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= cone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value: " + cone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ordinal: " + cone3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name: " + cone3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2986200" y="914400"/>
            <a:ext cx="3048840" cy="298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1 value: rocky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1 ordinal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1 name: rocky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2 value: choc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2 ordinal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2 name: choc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value: rocky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ordinal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name: rocky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1828800" y="42768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king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ve seen that once an object has been instantiated, we can us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t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voke it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Chars = title.length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 a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be used in an assignment or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invocation can be thought of as asking an object to perform a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 contai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apper cl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orrespond to each primitive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2209680"/>
          <a:ext cx="4711680" cy="4114800"/>
        </p:xfrm>
        <a:graphic>
          <a:graphicData uri="http://schemas.openxmlformats.org/drawingml/2006/table">
            <a:tbl>
              <a:tblPr/>
              <a:tblGrid>
                <a:gridCol w="2395440"/>
                <a:gridCol w="2316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</a:rPr>
                        <a:t>Primitiv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</a:rPr>
                        <a:t>Wrapper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eclaration create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which represents the integer 40 as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 age = new Integer(4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of a wrapper class can be used in any situation where a primitive value will not su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ome objects serve as containers of oth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 values could not be stored in such containers, but wrapper objects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classes also contain static methods that help manage the associate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a method to convert an integer stored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 = Integer.parseInt(st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often contain useful constant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IN_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X_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hold the smallest and larg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box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box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utomatic conversion of a primitive value to a corresponding wrapper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 ob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num = 4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 = n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creates the appropri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erse conversion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box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lso occurs automatically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following assignments valid?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489960" y="1981080"/>
            <a:ext cx="639864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value = 15.7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 ch = new Character('T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myChar = 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following assignments valid?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489960" y="1981080"/>
            <a:ext cx="639864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value = 15.7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 ch = new Character('T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myChar = 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447840" y="2590920"/>
            <a:ext cx="844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Yes. The double literal is autoboxed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Yes, the char in the object is unboxed before the assig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1828800" y="483084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al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for the applets seen in Chapter 2, the example programs we've explored thus far have been text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mand-line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nteract with the user using simple text 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amine some Java applications that have graphic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nents will serve as a foundation to programs that have true graphical user interfaces (GU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UI 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that represents a screen element such as a button or a tex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-related classes are defined primarily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stract Windowing Toolk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WT) was the original Java GUI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 provides additional and more versatil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ckages are needed to create a Java GUI-base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Contai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UI conta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ponent that is used to hold and organize othe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ntainer displayed as a separate window with a titl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repositioned and resized on the screen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tainer that cannot be displayed on its own but is used to organize othe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nel must be added to another container (like a frame or another panel) to be dis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 primitive variable contains the value itself, but an object variable contains the address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reference can be thought of as a pointer to the location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dealing with arbitrary addresses, we often depict a reference 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5"/>
          <p:cNvGrpSpPr/>
          <p:nvPr/>
        </p:nvGrpSpPr>
        <p:grpSpPr>
          <a:xfrm>
            <a:off x="2211120" y="4952880"/>
            <a:ext cx="4570560" cy="1053000"/>
            <a:chOff x="2211120" y="4952880"/>
            <a:chExt cx="4570560" cy="1053000"/>
          </a:xfrm>
        </p:grpSpPr>
        <p:sp>
          <p:nvSpPr>
            <p:cNvPr id="147" name="Rectangle 13"/>
            <p:cNvSpPr/>
            <p:nvPr/>
          </p:nvSpPr>
          <p:spPr>
            <a:xfrm>
              <a:off x="3200040" y="554688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7"/>
            <p:cNvSpPr/>
            <p:nvPr/>
          </p:nvSpPr>
          <p:spPr>
            <a:xfrm>
              <a:off x="4571640" y="5546880"/>
              <a:ext cx="221004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2211120" y="56070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0"/>
            <p:cNvSpPr/>
            <p:nvPr/>
          </p:nvSpPr>
          <p:spPr>
            <a:xfrm>
              <a:off x="3200040" y="49528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1"/>
            <p:cNvSpPr/>
            <p:nvPr/>
          </p:nvSpPr>
          <p:spPr>
            <a:xfrm>
              <a:off x="2332080" y="5013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3277800" y="49528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3504960" y="5715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Footer Placeholder 1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Contai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UI container can be classified as either heavyweight or light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avyweight conta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ne that is managed by the underlying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naged by the Java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ally this distinction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me is a heavyweight container and a panel is a lightweight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UI component that displays a line of text and/or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 are usually used to display information or identify other components in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 program that organizes two labels in a panel and displays that panel in a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gram is not interactive, but the frame can be repositioned and res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it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09480" y="6415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uthorit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frames, panels, and lab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splays some words of wis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Authorit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rimar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setBackground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setPreferredSize (new Dimension(250, 7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609480" y="121608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Question authority,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but raise your hand first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rima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609480" y="121608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Question authority,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but raise your hand first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rima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2743200" y="914400"/>
            <a:ext cx="3886200" cy="1676520"/>
            <a:chOff x="2743200" y="914400"/>
            <a:chExt cx="3886200" cy="1676520"/>
          </a:xfrm>
        </p:grpSpPr>
        <p:sp>
          <p:nvSpPr>
            <p:cNvPr id="402" name="TextBox 4"/>
            <p:cNvSpPr/>
            <p:nvPr/>
          </p:nvSpPr>
          <p:spPr>
            <a:xfrm>
              <a:off x="2743200" y="914400"/>
              <a:ext cx="3886200" cy="167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6" descr="Authority1.png"/>
            <p:cNvPicPr/>
            <p:nvPr/>
          </p:nvPicPr>
          <p:blipFill>
            <a:blip r:embed="rId1"/>
            <a:stretch/>
          </p:blipFill>
          <p:spPr>
            <a:xfrm>
              <a:off x="3038760" y="1170000"/>
              <a:ext cx="3289320" cy="11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" name="Group 12"/>
          <p:cNvGrpSpPr/>
          <p:nvPr/>
        </p:nvGrpSpPr>
        <p:grpSpPr>
          <a:xfrm>
            <a:off x="2286000" y="3124080"/>
            <a:ext cx="4876920" cy="1676520"/>
            <a:chOff x="2286000" y="3124080"/>
            <a:chExt cx="4876920" cy="1676520"/>
          </a:xfrm>
        </p:grpSpPr>
        <p:sp>
          <p:nvSpPr>
            <p:cNvPr id="405" name="TextBox 9"/>
            <p:cNvSpPr/>
            <p:nvPr/>
          </p:nvSpPr>
          <p:spPr>
            <a:xfrm>
              <a:off x="2286000" y="3124080"/>
              <a:ext cx="4876920" cy="167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6" name="Picture 11" descr="Authority2.png"/>
            <p:cNvPicPr/>
            <p:nvPr/>
          </p:nvPicPr>
          <p:blipFill>
            <a:blip r:embed="rId2"/>
            <a:stretch/>
          </p:blipFill>
          <p:spPr>
            <a:xfrm>
              <a:off x="2483640" y="3416040"/>
              <a:ext cx="4470840" cy="1155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ed Pa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s that contain other components make up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inment hier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ierarchy can be as intricate as needed to create the visual effect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nests two panels inside a third panel – note the effect this has as the frame is res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estedPanel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09480" y="30492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estedPanel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basic componenet hierarc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sted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ents two colored panels nested within a th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Nested Panel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first sub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subPan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1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15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1.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On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1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609480" y="106668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second sub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subPan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15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setBackground (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w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primary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rimar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setBackground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subPan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subPan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rima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609480" y="106668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second sub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subPan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15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setBackground (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w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primary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rimar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setBackground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subPan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subPan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rima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514600" y="380880"/>
            <a:ext cx="4343400" cy="2042280"/>
            <a:chOff x="2514600" y="380880"/>
            <a:chExt cx="4343400" cy="2042280"/>
          </a:xfrm>
        </p:grpSpPr>
        <p:sp>
          <p:nvSpPr>
            <p:cNvPr id="417" name="TextBox 4"/>
            <p:cNvSpPr/>
            <p:nvPr/>
          </p:nvSpPr>
          <p:spPr>
            <a:xfrm>
              <a:off x="2514600" y="380880"/>
              <a:ext cx="4343400" cy="204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6" descr="NestedPanels1.png"/>
            <p:cNvPicPr/>
            <p:nvPr/>
          </p:nvPicPr>
          <p:blipFill>
            <a:blip r:embed="rId1"/>
            <a:stretch/>
          </p:blipFill>
          <p:spPr>
            <a:xfrm>
              <a:off x="2712240" y="588960"/>
              <a:ext cx="3975120" cy="166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12"/>
          <p:cNvGrpSpPr/>
          <p:nvPr/>
        </p:nvGrpSpPr>
        <p:grpSpPr>
          <a:xfrm>
            <a:off x="2641680" y="2854440"/>
            <a:ext cx="4114800" cy="3505320"/>
            <a:chOff x="2641680" y="2854440"/>
            <a:chExt cx="4114800" cy="3505320"/>
          </a:xfrm>
        </p:grpSpPr>
        <p:sp>
          <p:nvSpPr>
            <p:cNvPr id="420" name="TextBox 9"/>
            <p:cNvSpPr/>
            <p:nvPr/>
          </p:nvSpPr>
          <p:spPr>
            <a:xfrm>
              <a:off x="2641680" y="2854440"/>
              <a:ext cx="4114800" cy="3505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Picture 11" descr="NestedPanels2.png"/>
            <p:cNvPicPr/>
            <p:nvPr/>
          </p:nvPicPr>
          <p:blipFill>
            <a:blip r:embed="rId2"/>
            <a:stretch/>
          </p:blipFill>
          <p:spPr>
            <a:xfrm>
              <a:off x="2900520" y="3026880"/>
              <a:ext cx="3606840" cy="3226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4"/>
          <p:cNvSpPr/>
          <p:nvPr/>
        </p:nvSpPr>
        <p:spPr>
          <a:xfrm>
            <a:off x="1828800" y="53895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assignment takes a copy of a value and stores it in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rimitive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6"/>
          <p:cNvGrpSpPr/>
          <p:nvPr/>
        </p:nvGrpSpPr>
        <p:grpSpPr>
          <a:xfrm>
            <a:off x="3125880" y="2971800"/>
            <a:ext cx="3078000" cy="992880"/>
            <a:chOff x="3125880" y="2971800"/>
            <a:chExt cx="3078000" cy="992880"/>
          </a:xfrm>
        </p:grpSpPr>
        <p:sp>
          <p:nvSpPr>
            <p:cNvPr id="158" name="Rectangle 20"/>
            <p:cNvSpPr/>
            <p:nvPr/>
          </p:nvSpPr>
          <p:spPr>
            <a:xfrm>
              <a:off x="5518080" y="297180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4649760" y="3032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>
              <a:off x="5595840" y="29718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5518080" y="3505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4649760" y="3565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6"/>
            <p:cNvSpPr/>
            <p:nvPr/>
          </p:nvSpPr>
          <p:spPr>
            <a:xfrm>
              <a:off x="5595840" y="35053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7"/>
            <p:cNvSpPr/>
            <p:nvPr/>
          </p:nvSpPr>
          <p:spPr>
            <a:xfrm>
              <a:off x="3125880" y="326088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Befor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28"/>
          <p:cNvSpPr/>
          <p:nvPr/>
        </p:nvSpPr>
        <p:spPr>
          <a:xfrm>
            <a:off x="1602000" y="42670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2 = num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7"/>
          <p:cNvGrpSpPr/>
          <p:nvPr/>
        </p:nvGrpSpPr>
        <p:grpSpPr>
          <a:xfrm>
            <a:off x="3125160" y="5029200"/>
            <a:ext cx="3078720" cy="992880"/>
            <a:chOff x="3125160" y="5029200"/>
            <a:chExt cx="3078720" cy="992880"/>
          </a:xfrm>
        </p:grpSpPr>
        <p:sp>
          <p:nvSpPr>
            <p:cNvPr id="167" name="Rectangle 29"/>
            <p:cNvSpPr/>
            <p:nvPr/>
          </p:nvSpPr>
          <p:spPr>
            <a:xfrm>
              <a:off x="5518080" y="502920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0"/>
            <p:cNvSpPr/>
            <p:nvPr/>
          </p:nvSpPr>
          <p:spPr>
            <a:xfrm>
              <a:off x="4649760" y="5089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1"/>
            <p:cNvSpPr/>
            <p:nvPr/>
          </p:nvSpPr>
          <p:spPr>
            <a:xfrm>
              <a:off x="5595480" y="5029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2"/>
            <p:cNvSpPr/>
            <p:nvPr/>
          </p:nvSpPr>
          <p:spPr>
            <a:xfrm>
              <a:off x="5518080" y="55627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3"/>
            <p:cNvSpPr/>
            <p:nvPr/>
          </p:nvSpPr>
          <p:spPr>
            <a:xfrm>
              <a:off x="4649760" y="5623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4"/>
            <p:cNvSpPr/>
            <p:nvPr/>
          </p:nvSpPr>
          <p:spPr>
            <a:xfrm>
              <a:off x="5595480" y="5562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5"/>
            <p:cNvSpPr/>
            <p:nvPr/>
          </p:nvSpPr>
          <p:spPr>
            <a:xfrm>
              <a:off x="3125160" y="5318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Aft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ooter Placeholder 2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can be displayed in a Java program in various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've seen,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an be used to display a line of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also be used to display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a label can be composed of text, an image, or both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used to represent the image that is stored in a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ext is also included, the position of the text relative to the image can be set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ignment of the text and image within the label can be se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Demo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609480" y="53352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belDemo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image icons in lab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primary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Label Dem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ico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devil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1, label2, label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Left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609480" y="838080"/>
            <a:ext cx="807732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Right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HorizontalTextPosition (SwingConstants.LEF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VerticalTextPosition (SwingConstants.BOTT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Above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.setHorizontalTextPosition (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.setVerticalTextPosition (SwingConstants.BOTT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200, 25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609480" y="838080"/>
            <a:ext cx="807732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Right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HorizontalTextPosition (SwingConstants.LEF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VerticalTextPosition (SwingConstants.BOTT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Above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.setHorizontalTextPosition (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.setVerticalTextPosition (SwingConstants.BOTT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200, 25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971800" y="609480"/>
            <a:ext cx="3149640" cy="3871080"/>
            <a:chOff x="2971800" y="609480"/>
            <a:chExt cx="3149640" cy="3871080"/>
          </a:xfrm>
        </p:grpSpPr>
        <p:sp>
          <p:nvSpPr>
            <p:cNvPr id="439" name="TextBox 12"/>
            <p:cNvSpPr/>
            <p:nvPr/>
          </p:nvSpPr>
          <p:spPr>
            <a:xfrm>
              <a:off x="2971800" y="609480"/>
              <a:ext cx="3149640" cy="387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14" descr="LabelDemo.png"/>
            <p:cNvPicPr/>
            <p:nvPr/>
          </p:nvPicPr>
          <p:blipFill>
            <a:blip r:embed="rId1"/>
            <a:stretch/>
          </p:blipFill>
          <p:spPr>
            <a:xfrm>
              <a:off x="3276360" y="858240"/>
              <a:ext cx="2514960" cy="3454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reation and objec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and its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ava standard clas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s and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bject references, assignment copies the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9880" y="38098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2 = name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2"/>
          <p:cNvGrpSpPr/>
          <p:nvPr/>
        </p:nvGrpSpPr>
        <p:grpSpPr>
          <a:xfrm>
            <a:off x="1906920" y="2514600"/>
            <a:ext cx="6170400" cy="992520"/>
            <a:chOff x="1906920" y="2514600"/>
            <a:chExt cx="6170400" cy="992520"/>
          </a:xfrm>
        </p:grpSpPr>
        <p:sp>
          <p:nvSpPr>
            <p:cNvPr id="179" name="Rectangle 40"/>
            <p:cNvSpPr/>
            <p:nvPr/>
          </p:nvSpPr>
          <p:spPr>
            <a:xfrm>
              <a:off x="4419720" y="25146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1"/>
            <p:cNvSpPr/>
            <p:nvPr/>
          </p:nvSpPr>
          <p:spPr>
            <a:xfrm>
              <a:off x="3430800" y="25747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4"/>
            <p:cNvSpPr/>
            <p:nvPr/>
          </p:nvSpPr>
          <p:spPr>
            <a:xfrm>
              <a:off x="3430800" y="31082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6"/>
            <p:cNvSpPr/>
            <p:nvPr/>
          </p:nvSpPr>
          <p:spPr>
            <a:xfrm>
              <a:off x="1906920" y="280332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Befor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57"/>
            <p:cNvSpPr/>
            <p:nvPr/>
          </p:nvSpPr>
          <p:spPr>
            <a:xfrm>
              <a:off x="5486400" y="2514600"/>
              <a:ext cx="221004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2"/>
            <p:cNvSpPr/>
            <p:nvPr/>
          </p:nvSpPr>
          <p:spPr>
            <a:xfrm>
              <a:off x="4724640" y="2705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3"/>
            <p:cNvSpPr/>
            <p:nvPr/>
          </p:nvSpPr>
          <p:spPr>
            <a:xfrm>
              <a:off x="4419720" y="304776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4"/>
            <p:cNvSpPr/>
            <p:nvPr/>
          </p:nvSpPr>
          <p:spPr>
            <a:xfrm>
              <a:off x="5486400" y="3047760"/>
              <a:ext cx="2590920" cy="38124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Wozniak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5"/>
            <p:cNvSpPr/>
            <p:nvPr/>
          </p:nvSpPr>
          <p:spPr>
            <a:xfrm>
              <a:off x="4724640" y="3238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73"/>
          <p:cNvGrpSpPr/>
          <p:nvPr/>
        </p:nvGrpSpPr>
        <p:grpSpPr>
          <a:xfrm>
            <a:off x="1906200" y="4724280"/>
            <a:ext cx="5637600" cy="1000440"/>
            <a:chOff x="1906200" y="4724280"/>
            <a:chExt cx="5637600" cy="1000440"/>
          </a:xfrm>
        </p:grpSpPr>
        <p:sp>
          <p:nvSpPr>
            <p:cNvPr id="189" name="Rectangle 48"/>
            <p:cNvSpPr/>
            <p:nvPr/>
          </p:nvSpPr>
          <p:spPr>
            <a:xfrm>
              <a:off x="4419720" y="472428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9"/>
            <p:cNvSpPr/>
            <p:nvPr/>
          </p:nvSpPr>
          <p:spPr>
            <a:xfrm>
              <a:off x="3430440" y="47923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1"/>
            <p:cNvSpPr/>
            <p:nvPr/>
          </p:nvSpPr>
          <p:spPr>
            <a:xfrm>
              <a:off x="4419720" y="526536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2"/>
            <p:cNvSpPr/>
            <p:nvPr/>
          </p:nvSpPr>
          <p:spPr>
            <a:xfrm>
              <a:off x="3430440" y="53258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4"/>
            <p:cNvSpPr/>
            <p:nvPr/>
          </p:nvSpPr>
          <p:spPr>
            <a:xfrm>
              <a:off x="1906200" y="5020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Aft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66"/>
            <p:cNvSpPr/>
            <p:nvPr/>
          </p:nvSpPr>
          <p:spPr>
            <a:xfrm>
              <a:off x="5410080" y="4724280"/>
              <a:ext cx="213372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7"/>
            <p:cNvSpPr/>
            <p:nvPr/>
          </p:nvSpPr>
          <p:spPr>
            <a:xfrm>
              <a:off x="4648320" y="4914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8"/>
            <p:cNvSpPr/>
            <p:nvPr/>
          </p:nvSpPr>
          <p:spPr>
            <a:xfrm flipV="1">
              <a:off x="5257800" y="517356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9"/>
            <p:cNvSpPr/>
            <p:nvPr/>
          </p:nvSpPr>
          <p:spPr>
            <a:xfrm flipH="1">
              <a:off x="4647960" y="5478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Footer Placeholder 2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9:25:23Z</dcterms:created>
  <dc:creator>usnidem</dc:creator>
  <dc:description/>
  <dc:language>en-US</dc:language>
  <cp:lastModifiedBy>Noreen Elliott</cp:lastModifiedBy>
  <dcterms:modified xsi:type="dcterms:W3CDTF">2013-08-12T20:17:19Z</dcterms:modified>
  <cp:revision>18</cp:revision>
  <dc:subject/>
  <dc:title>Chapter #, Title</dc:title>
</cp:coreProperties>
</file>